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538392F-8340-4389-88FF-072654AFB615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DB19ED6-D3DB-4BB7-BF24-202298D9CC78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CCD36FD-FEAF-4278-AD4A-5BDBFC6C9A2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to modify this powerpoint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imple diffusion vs. facilitated diffu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cell membrane stuf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electively permeabl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define equilibrium and concentration gradi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define isotonic, hypertonic, hypot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active 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 jenn nemec’s chart to go along with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5587DF5-C8AA-49C2-BE50-38D5FE766E51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0F6055D-BDE3-4B85-AA41-9300599D3EB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6B70149-6762-4633-B788-97B4A4F191EA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A4FD351-2DB4-4155-AC1C-1D9C36AED1EB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6D2CE04-BE95-4A8E-A236-98620D2A2F43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261C940-F855-4E2C-B798-74AE131A9EA5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C0F9962-1DC6-4D97-9CCB-2FE5B13B09CD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D713110-E41B-4314-91E7-D6ABF985A62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34E86B4-867B-44F2-AEA3-B5561701C80B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CA81C6C-2626-468C-A500-B064C47163F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DB8EEFE-2DD9-430B-81F6-A55E77F46971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7887DC8-65BB-41CD-B13B-402C9B8357D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39FB804-B462-4326-96F0-E27A7AFB534C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0BFA0F6-E2BB-4D5E-B9CB-67ED2950820D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0B03E65-3A4B-4C69-AB3C-47B4C553A078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ABA39F7-18FD-4374-BE4B-C1C79C59D02E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0B6-E470-4B5E-AFD9-2382DFC2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CD5-E573-40AC-80C6-53D3583D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542-8071-47F8-AF2A-D340C212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6E4-372D-4D4B-94CF-1CFD3F5D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17B-A79E-413C-8253-3375AE9B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0DC-4745-4299-AE61-E15B8DF6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993-BD24-4F00-B4E5-25AE496C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009-2A40-4F17-A440-9335CDA9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842-7434-412B-BC69-506E4839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78C-A519-4589-9CEA-832BD40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FED-EB7C-4483-B6A1-16713278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CD5-A438-4D93-9932-A2C93AC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16DB-B702-4EC2-8DEE-D1313FF57E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hyperlink" Target="file:///../../../Downloaded%20Videos/Fluid%20mosiac%20model.avi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CDC4-91A8-4743-A8AD-6E78B477C2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Trans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 of the Cell Membr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what enters and leaves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protection and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Transition…AHHHH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seem completely rando…but I promise the dots will connect late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olution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 of sol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giv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 of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in concentration over a distance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FA34-A176-4197-B315-3A6EBA7862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ple Diff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</a:rPr>
              <a:t>Descrip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move from area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 to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ntr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y are go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NTRATION GRAD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(no energy requir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1028" descr="diffusion-animated[1]"/>
          <p:cNvPicPr/>
          <p:nvPr/>
        </p:nvPicPr>
        <p:blipFill>
          <a:blip r:embed="rId1"/>
          <a:stretch/>
        </p:blipFill>
        <p:spPr>
          <a:xfrm>
            <a:off x="4876920" y="2362320"/>
            <a:ext cx="38192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9F7B-43F5-48AF-B4EA-5A3447A62D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Picture 4" descr="FG05_04"/>
          <p:cNvPicPr/>
          <p:nvPr/>
        </p:nvPicPr>
        <p:blipFill>
          <a:blip r:embed="rId1"/>
          <a:srcRect l="4618" t="0" r="0" b="7397"/>
          <a:stretch/>
        </p:blipFill>
        <p:spPr>
          <a:xfrm>
            <a:off x="380880" y="4572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610280" y="5761080"/>
            <a:ext cx="57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Diffusion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ple Diffusion of a Solute Across a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2ACB-4EB5-4588-9ED2-1B7A83889C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673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n all solutes cross the membrane by simple diffus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embran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electively permeabl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means only certain solutes (typically small ones) can pass across by simple diff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olution? – Channel Protei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6F9B-F84D-497E-BE97-3AFE4FDC44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Description: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usion of certain molecules throug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made possible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rotein chan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d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5" descr="http://bio1151b.nicerweb.com/Locked/media/ch07/07_15FacilitatedDiffusionA.jpg"/>
          <p:cNvPicPr/>
          <p:nvPr/>
        </p:nvPicPr>
        <p:blipFill>
          <a:blip r:embed="rId1"/>
          <a:stretch/>
        </p:blipFill>
        <p:spPr>
          <a:xfrm>
            <a:off x="3200400" y="4114800"/>
            <a:ext cx="5495760" cy="2378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441360" y="4160880"/>
            <a:ext cx="237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facilitated diffusion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DA36-FF4F-415B-8939-019FB922CB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Description: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u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cross a selectively permeable membra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WN GRAD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hat is, WATER moves down its gradien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3" descr="osmosis"/>
          <p:cNvPicPr/>
          <p:nvPr/>
        </p:nvPicPr>
        <p:blipFill>
          <a:blip r:embed="rId1"/>
          <a:stretch/>
        </p:blipFill>
        <p:spPr>
          <a:xfrm>
            <a:off x="4419720" y="3581280"/>
            <a:ext cx="4038480" cy="3054600"/>
          </a:xfrm>
          <a:prstGeom prst="rect">
            <a:avLst/>
          </a:prstGeom>
          <a:ln w="0">
            <a:noFill/>
          </a:ln>
        </p:spPr>
      </p:pic>
      <p:sp>
        <p:nvSpPr>
          <p:cNvPr id="113" name="Line 5"/>
          <p:cNvSpPr/>
          <p:nvPr/>
        </p:nvSpPr>
        <p:spPr>
          <a:xfrm>
            <a:off x="5181480" y="51055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93640" y="4008600"/>
            <a:ext cx="32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Osmosis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Iso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62120" y="1447920"/>
            <a:ext cx="5790960" cy="4038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066680" y="182880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819520" y="38098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1440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14300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is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60020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3505320" y="1752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6553080" y="236232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AME solute (and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Understan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the end of today’s lesson, you should be able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swer the following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cell membrane and what do they 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“Fluid Mosaic Model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rocesses of diffusion, osmosis, facilitated diffusion, and active transpo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401C-79DB-4AB0-8B6D-0071F7E81C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Hypo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28600" y="1447920"/>
            <a:ext cx="5791320" cy="4038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16765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3828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57200" y="1676520"/>
            <a:ext cx="2133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209680" y="36576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066680" y="5867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97180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6095880" y="182880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OWER solute (HIGHER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B4ED-A9A3-4838-8EDD-831A3E35C5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Hyper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28600" y="1523880"/>
            <a:ext cx="5791320" cy="4038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1828800" y="2743200"/>
            <a:ext cx="304812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666880" y="3124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80880" y="1828800"/>
            <a:ext cx="2133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% solu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5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438280" y="38098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5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914400" y="5791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8954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6248520" y="190512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IGHER solute (LOWER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0" descr="15_009[1]"/>
          <p:cNvPicPr/>
          <p:nvPr/>
        </p:nvPicPr>
        <p:blipFill>
          <a:blip r:embed="rId1"/>
          <a:srcRect l="0" t="42671" r="0" b="21332"/>
          <a:stretch/>
        </p:blipFill>
        <p:spPr>
          <a:xfrm>
            <a:off x="609480" y="609480"/>
            <a:ext cx="8001000" cy="2057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"/>
          <p:cNvSpPr/>
          <p:nvPr/>
        </p:nvSpPr>
        <p:spPr>
          <a:xfrm>
            <a:off x="106668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990720" y="4038480"/>
            <a:ext cx="2971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T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equal amounts entering &amp; leaving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191120" y="2971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3886200" y="2971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41911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Burs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66294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647712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hrink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2438280" y="34290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5029200" y="3886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7467480" y="37339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477120" y="5105520"/>
            <a:ext cx="222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Onion Cells Plasmolysis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4098960" y="5151600"/>
            <a:ext cx="1616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Red Blood Cells in Hypotonic Solution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6477120" y="5943600"/>
            <a:ext cx="237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Red Blood Cells in a Hypertonic Solution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5A7D-B2AC-4769-8035-3430CE76D9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mosis in Red Blood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3" descr="image004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3584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762120" y="5638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657600" y="5715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6400800" y="5638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 in Plant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077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99"/>
                </a:solidFill>
                <a:latin typeface="Arial"/>
              </a:rPr>
              <a:t>Description</a:t>
            </a:r>
            <a:r>
              <a:rPr b="0" lang="en-US" sz="4000" spc="-1" strike="noStrike">
                <a:solidFill>
                  <a:srgbClr val="262699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ment of materials fro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IGH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cess (uses energ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523960" cy="47246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ve Trans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lecular Pum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6400800" y="495288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57200" y="1447920"/>
            <a:ext cx="487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Molecular pump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re membrane proteins that use energy fro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molecules across cell membranes.  (Each pump moves one type of molecul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69960" y="598968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.\..\..\Downloaded Videos\Active Transport.av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docytosis vs. Exocyto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nd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king large amounts of material into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x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nding large amounts of material out of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5073-B25F-4CF2-9A58-146331F306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docytosi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hagocytosis &amp; Pinocyto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380880" y="1447920"/>
            <a:ext cx="44960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hag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embrane folds to enclose solid particle (cell eating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inocytos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e membrane folds to enclose liquid with dissolved materials (cell drinkin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29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438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83772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endocytosis, the membrane pinches in to form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esi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sicle may later join with a lysosome so that particles can be “digested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E9BC-9EA5-4BE7-9E21-F22F9C02A4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3438360" cy="5219640"/>
          </a:xfrm>
          <a:prstGeom prst="rect">
            <a:avLst/>
          </a:prstGeom>
          <a:ln w="0">
            <a:noFill/>
          </a:ln>
        </p:spPr>
      </p:pic>
      <p:cxnSp>
        <p:nvCxnSpPr>
          <p:cNvPr id="196" name="Straight Arrow Connector 7"/>
          <p:cNvCxnSpPr/>
          <p:nvPr/>
        </p:nvCxnSpPr>
        <p:spPr>
          <a:xfrm flipH="1" flipV="1">
            <a:off x="6705000" y="2361600"/>
            <a:ext cx="1067400" cy="114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8"/>
          <p:cNvCxnSpPr/>
          <p:nvPr/>
        </p:nvCxnSpPr>
        <p:spPr>
          <a:xfrm flipH="1">
            <a:off x="6933960" y="4038480"/>
            <a:ext cx="762480" cy="99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TextBox 12"/>
          <p:cNvSpPr/>
          <p:nvPr/>
        </p:nvSpPr>
        <p:spPr>
          <a:xfrm>
            <a:off x="7697520" y="35812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sic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236F-4590-4825-A6F3-82C7D3B11B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Picture 2" descr="http://library.thinkquest.org/C004535/media/cell_membrane.gif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714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52280" y="1295280"/>
            <a:ext cx="426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ulates passage of materials into and out of the 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s of the membrane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) lipid bilayer (2 layer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 prote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 choleste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 carbohydrate cha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5124600" y="1108080"/>
            <a:ext cx="4019400" cy="5257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6"/>
          <p:cNvSpPr/>
          <p:nvPr/>
        </p:nvSpPr>
        <p:spPr>
          <a:xfrm>
            <a:off x="4385160" y="12114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47"/>
          <p:cNvSpPr/>
          <p:nvPr/>
        </p:nvSpPr>
        <p:spPr>
          <a:xfrm>
            <a:off x="152280" y="1523880"/>
            <a:ext cx="48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ducts of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re packaged 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vesicl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olg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released at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ell membr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65040" y="446580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Endocytosis &amp; Exocytosis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Membrane and Homeosta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from Characteristics of Life…wha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meost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 organisms to maintain homeostasis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pid Bilay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de of 2 sheets of phospholipids, a type of lipid with a head and 2 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drophilic (water loving) h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drophobic (water fearing) t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CEB2-DFA3-443B-B4C9-247623CA6D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" name="Picture 2" descr="http://chemwiki.ucdavis.edu/@api/deki/files/5716/=phospholipid.jpg"/>
          <p:cNvPicPr/>
          <p:nvPr/>
        </p:nvPicPr>
        <p:blipFill>
          <a:blip r:embed="rId1"/>
          <a:stretch/>
        </p:blipFill>
        <p:spPr>
          <a:xfrm>
            <a:off x="5257800" y="2286000"/>
            <a:ext cx="35053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y do the phospholipids arrange themselves in a bilaye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E8A6-EC97-4548-8219-95E1645A5D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2" descr="http://d2o7bfz2il9cb7.cloudfront.net/main-qimg-59ecc5a50b981e1bc2f85632b5e94cce"/>
          <p:cNvPicPr/>
          <p:nvPr/>
        </p:nvPicPr>
        <p:blipFill>
          <a:blip r:embed="rId1"/>
          <a:stretch/>
        </p:blipFill>
        <p:spPr>
          <a:xfrm>
            <a:off x="1828800" y="1905120"/>
            <a:ext cx="51814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2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mbrane Proteins: Act as channels for large particles to enter and leave the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uid-Mosaic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describes the flexibility of the lipid bilayer with a mosaic of proteins and other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3E99-8F19-4EA8-9241-FD287B5A29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9" name="Picture 2" descr="http://www.biologycorner.com/resources/cell_membrane_channel1.jpg"/>
          <p:cNvPicPr/>
          <p:nvPr/>
        </p:nvPicPr>
        <p:blipFill>
          <a:blip r:embed="rId1"/>
          <a:stretch/>
        </p:blipFill>
        <p:spPr>
          <a:xfrm>
            <a:off x="6172200" y="533520"/>
            <a:ext cx="2571840" cy="240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library.thinkquest.org/C004535/media/cell_membrane.gif"/>
          <p:cNvPicPr/>
          <p:nvPr/>
        </p:nvPicPr>
        <p:blipFill>
          <a:blip r:embed="rId2"/>
          <a:stretch/>
        </p:blipFill>
        <p:spPr>
          <a:xfrm>
            <a:off x="5334120" y="3276720"/>
            <a:ext cx="3476520" cy="2647800"/>
          </a:xfrm>
          <a:prstGeom prst="rect">
            <a:avLst/>
          </a:prstGeom>
          <a:ln w="0">
            <a:noFill/>
          </a:ln>
        </p:spPr>
      </p:pic>
      <p:sp>
        <p:nvSpPr>
          <p:cNvPr id="71" name="Oval 9"/>
          <p:cNvSpPr/>
          <p:nvPr/>
        </p:nvSpPr>
        <p:spPr>
          <a:xfrm>
            <a:off x="5715000" y="4191120"/>
            <a:ext cx="9144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858000" y="1143000"/>
            <a:ext cx="1143000" cy="1752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Straight Connector 12"/>
          <p:cNvSpPr/>
          <p:nvPr/>
        </p:nvSpPr>
        <p:spPr>
          <a:xfrm flipV="1">
            <a:off x="6172200" y="2743200"/>
            <a:ext cx="9907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4" descr="http://www.charlsiekelly.com/images/fish_mosaic_sm.jpg"/>
          <p:cNvPicPr/>
          <p:nvPr/>
        </p:nvPicPr>
        <p:blipFill>
          <a:blip r:embed="rId3"/>
          <a:stretch/>
        </p:blipFill>
        <p:spPr>
          <a:xfrm>
            <a:off x="533520" y="3581280"/>
            <a:ext cx="3276360" cy="2459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3870360" y="6066000"/>
            <a:ext cx="3825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..\..\..\Downloaded Videos\Fluid mosiac model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Cha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parts of molecules to determine what molecules can be brought into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 and Key F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648320" y="3954600"/>
            <a:ext cx="40766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 the Parts of the Membran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lipi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 Ch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http://library.thinkquest.org/C004535/media/cell_membrane.gif"/>
          <p:cNvPicPr/>
          <p:nvPr/>
        </p:nvPicPr>
        <p:blipFill>
          <a:blip r:embed="rId1"/>
          <a:stretch/>
        </p:blipFill>
        <p:spPr>
          <a:xfrm>
            <a:off x="2514600" y="3276720"/>
            <a:ext cx="6477120" cy="334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72200" y="1295280"/>
            <a:ext cx="2743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23:07:55Z</dcterms:created>
  <dc:creator>Cheryl Massengale</dc:creator>
  <dc:description/>
  <dc:language>en-US</dc:language>
  <cp:lastModifiedBy>OttoliKE</cp:lastModifiedBy>
  <cp:lastPrinted>2005-11-21T16:13:08Z</cp:lastPrinted>
  <dcterms:modified xsi:type="dcterms:W3CDTF">2011-11-18T12:12:28Z</dcterms:modified>
  <cp:revision>159</cp:revision>
  <dc:subject/>
  <dc:title>Plasma Membrane</dc:title>
</cp:coreProperties>
</file>